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0BA-8881-45AD-9C22-0BC11997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0FE-77CD-4577-9BEA-76A1CD8F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BF0-715E-4633-B757-0C6D7E65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74F-5CFA-4DEE-9A5E-661A8762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31A8-DD67-45D1-9A86-E15470B4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05D-FBDC-42BC-BB41-4F2B473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C36C-3934-4D7F-9427-9C4193D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1FC2-EEC0-45BA-BE7A-94759C2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0354-B1CB-4BDB-B581-97323972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935-E74E-40F6-BF15-BA64E9D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670B-7273-4691-8D9F-C2771BB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E8B-2032-4EAB-A675-739C987D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AB9-6CBE-448D-B685-6C52DF3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FB88-D86E-4171-B72C-E967787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6BB-2712-406B-A0D3-51758A3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45AC-14B3-48B2-A1CF-2538CAB4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0E73-C34E-4C6C-9FB0-D84C82CB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3095-B5AA-4939-871C-3E8B4812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3FB5-3E8F-4D45-A73D-00C0A55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4D41-9C17-47F5-A173-2184107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C09B-F911-498A-A8D8-0511851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1027-23D6-4978-8B53-59091A3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D18-2965-4C9F-A0AC-291D99E7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4BE5-86DC-4C21-91B9-3EDAF89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57DD-8161-4E58-91C6-F1AE93B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7C51-55CF-44DA-9AD8-0AF3BB1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0E91-77A2-401A-9A9B-790C416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D923-BB83-46BF-A22F-E7F50C5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C72A-FE1D-442B-8533-9BB78C1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0000-0A70-4489-874B-E409B733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BF59-BEE0-4022-8DEA-12F38422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985D-615E-4059-ACC8-A21A3CF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7638-D2D7-48FF-ADC6-497C211A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199-2995-4793-8B7C-9C63131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0658-8FCA-4097-B326-9BC041F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7BE4-7166-4B3E-A7A5-9A8B23A6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AE8F-3DEE-4B7C-BC1E-58AF468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24CD-F7D7-4FE9-ABFB-88E447F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931F-D668-4E95-962C-EA5F15D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D8AA-F1B3-40B0-9501-A08547F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F3C5-B08B-4875-8AE6-C3D6EDD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235A-4F24-4444-8712-2A436C25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2060-8309-4EB5-ABFE-C7281AF8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58149-6AD1-43FF-9105-42EEC219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161-EFA5-44CF-A36E-D095752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28A1-8BE5-47A0-8415-846B2BE5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B064-28A7-478B-BA62-ED407F1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A358-0B01-4832-9B96-E212418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D37C-B672-49CE-8240-F159AAD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FF671-A270-4703-BA53-B958BA7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0348-9947-4288-AADD-06BDE45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FD5C-D2A1-42A4-AD5E-0380794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750ED-BF17-4C76-A1A8-93000113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2CAC-842B-4087-8E20-1B6AD1C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474C-FB97-496D-8E05-32A65AED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C54-0A2F-476F-80A0-7ACAEF7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D7FB-4CA7-479F-9457-A94CDF77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5CB5-0542-4448-8E66-C8CCD830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818AC-2103-40E7-9613-0F148DA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6D2A-B04D-49F7-806D-0EF893DD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0B04-BA39-46B1-A1F2-F52D4C0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9AAC-F87A-419F-B321-0BD8AD83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586A-5993-4612-8AB7-BF49585F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2846-585D-47B6-837F-C64A8A8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6B042-CE41-4A06-8107-24729FA3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5730-A16E-4EDA-A6AD-FC40F90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B0F-DDDB-47CA-A697-26C0E06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5461-03A1-463B-845D-1EAAA9F1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FAB1-4724-4B9B-839F-96A326B5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2F4E-0362-4AC2-9E7B-D4DB0562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E16-3C90-498F-98DD-846D76E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8AB-29D0-4FDF-A04F-6A2FAC6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1C0-4DAF-4A61-A00D-9A56A2156B8B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0B5-CAE5-4A69-B865-A4CF33E9225B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A107-3366-4765-82B5-C3B4460DD58C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A289-27F3-4B3D-BCA6-BA4177BAE63F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BB7-B6A7-4191-8479-AB98B72960B7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3A2-DAB3-4392-950F-72DC6F757306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n.netsmartz.org/tipsheets/AFT_brochure.pdf" TargetMode="External"/><Relationship Id="rId2" Type="http://schemas.openxmlformats.org/officeDocument/2006/relationships/hyperlink" Target="http://cdn.netsmartz.org/tipsheets/tips_for_teens.pdf" TargetMode="External"/><Relationship Id="rId3" Type="http://schemas.openxmlformats.org/officeDocument/2006/relationships/hyperlink" Target="http://cdn.netsmartz.org/tipsheets/tween_tips_2011.pdf" TargetMode="External"/><Relationship Id="rId4" Type="http://schemas.openxmlformats.org/officeDocument/2006/relationships/hyperlink" Target="http://cdn.netsmartz.org/tipsheets/protecting_kid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95120" y="628560"/>
            <a:ext cx="7064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1071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1802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6930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040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miley Face 1">
            <a:hlinkClick r:id="rId1"/>
          </p:cNvPr>
          <p:cNvSpPr/>
          <p:nvPr/>
        </p:nvSpPr>
        <p:spPr>
          <a:xfrm>
            <a:off x="7467480" y="1066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miley Face 2">
            <a:hlinkClick r:id="rId2"/>
          </p:cNvPr>
          <p:cNvSpPr/>
          <p:nvPr/>
        </p:nvSpPr>
        <p:spPr>
          <a:xfrm>
            <a:off x="7924680" y="25909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miley Face 3">
            <a:hlinkClick r:id="rId3"/>
          </p:cNvPr>
          <p:cNvSpPr/>
          <p:nvPr/>
        </p:nvSpPr>
        <p:spPr>
          <a:xfrm>
            <a:off x="7924680" y="4038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miley Face 4">
            <a:hlinkClick r:id="rId4"/>
          </p:cNvPr>
          <p:cNvSpPr/>
          <p:nvPr/>
        </p:nvSpPr>
        <p:spPr>
          <a:xfrm>
            <a:off x="7543800" y="54100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609480" y="1143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ors Guide to Online Communication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1143000" y="2666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Safety Tips for Te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143000" y="4114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Safety Tips for Twe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685800" y="5486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ng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69008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7:23:25Z</dcterms:created>
  <dc:creator>David Cogswell</dc:creator>
  <dc:description/>
  <dc:language>en-US</dc:language>
  <cp:lastModifiedBy>Mike</cp:lastModifiedBy>
  <dcterms:modified xsi:type="dcterms:W3CDTF">2012-07-19T20:05:20Z</dcterms:modified>
  <cp:revision>2</cp:revision>
  <dc:subject/>
  <dc:title>Slide 1</dc:title>
</cp:coreProperties>
</file>